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713D-83F9-438E-BEED-2D6F0DD7D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B496-86F5-41CA-A15F-442890BA5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1C21-A01C-4EDE-8D5F-A0FB0ED5E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3231-6E58-4E1B-8065-53D835F20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4158-2502-415D-B316-9421962FA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7562-968A-4B08-9107-270968D0A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9AA5-A9B9-4BC0-AB91-AE50CBD04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0694-1E35-4AE3-9E33-BF6522721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D2E4-F391-4F5C-BF03-F3FA6B099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1E76-1B0E-446E-8633-5DBF003F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A6EE-5365-4635-8F90-58FD568E4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54DE-73C6-4F41-AED3-6E9DEA7A3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D7BB0-06AB-4D44-AA4A-359FC8A82B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ract tes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13:40:55Z</dcterms:created>
  <dc:creator>najgor++</dc:creator>
  <dc:description/>
  <dc:language>en-US</dc:language>
  <cp:lastModifiedBy>Alexander Chow</cp:lastModifiedBy>
  <dcterms:modified xsi:type="dcterms:W3CDTF">2011-02-21T14:07:01Z</dcterms:modified>
  <cp:revision>2</cp:revision>
  <dc:subject/>
  <dc:title>Extract test</dc:title>
</cp:coreProperties>
</file>