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A077-42FB-4560-A835-C666CF7C7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0B90-F4AE-47ED-885B-11AE4967B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0E90-E2F0-4E47-99DB-3531C4B7C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495A-F31B-4CEB-8709-A9D9096DD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1D9B-A3B6-45FD-8DF3-7AD663496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B804-ED19-4B5D-A530-98A5973DD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D2C0-D173-49A3-9073-73E198CD4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211B-95ED-46F9-8AE7-8428E3F38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BD7D-D70C-4DA3-A5BE-88A6318D3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0B2C-F024-49E3-881A-578A1D928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7116-5855-4F4D-B689-3A07CE889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15F3-230A-4413-85D7-6D7E9379A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7B408-5826-4BA2-BAC4-8DC889A8A7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tract test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13:40:55Z</dcterms:created>
  <dc:creator>najgor++</dc:creator>
  <dc:description/>
  <dc:language>en-US</dc:language>
  <cp:lastModifiedBy>Alexander Chow</cp:lastModifiedBy>
  <dcterms:modified xsi:type="dcterms:W3CDTF">2011-02-21T14:07:01Z</dcterms:modified>
  <cp:revision>2</cp:revision>
  <dc:subject/>
  <dc:title>Extract test</dc:title>
</cp:coreProperties>
</file>