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734E-999E-4D93-8D72-8DE4A6208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926B-9680-4EB5-A1B9-B6FE182FE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C8B1-CD99-464C-BBD6-51A3EDB06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8AC0-F2A7-4ABC-BAD2-E50390616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35A0-6278-40CF-B051-2B3198ACB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014B-8F88-422C-AB9F-286D35970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7BAD-54E1-4119-BDD8-F220FC447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7CD0-00B4-4AF6-A0F8-E4B819FD8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0523-1B50-4A6C-8EF0-3C1EA710D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6ADE-566E-4D72-B6E5-CC732355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ADBF-535E-4200-9057-93A18D2C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8089-86F9-4FFF-ADC5-F31C5CC23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3BB4F-E8AC-421C-B7BC-241396E16D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ract tes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13:40:55Z</dcterms:created>
  <dc:creator>najgor++</dc:creator>
  <dc:description/>
  <dc:language>en-US</dc:language>
  <cp:lastModifiedBy>Alexander Chow</cp:lastModifiedBy>
  <dcterms:modified xsi:type="dcterms:W3CDTF">2011-02-21T14:07:01Z</dcterms:modified>
  <cp:revision>2</cp:revision>
  <dc:subject/>
  <dc:title>Extract test</dc:title>
</cp:coreProperties>
</file>