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439A-F4CF-4E17-86ED-90CABFB05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8BF7-C0CA-452A-9B8A-D727D956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BDC-0B20-4624-8591-EBF9EC4F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095-493F-4E02-880C-4AE7E499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9EA-FE24-4A51-82A8-FF887E4C6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D78-858A-4DD0-946F-7736A1A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76C-8BE2-4E31-A381-F0846264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3774-D823-4302-B51F-596764E6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8C4-75B6-42D0-9DB8-41A09276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BD7-1CF6-46CC-BC5E-D1CCA4CA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04D-101D-4024-9AE3-17E2B74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0A7-3834-462A-818D-D9ABEE90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7429-F0AB-4741-86F1-EC895FE1A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es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3:40:55Z</dcterms:created>
  <dc:creator>najgor++</dc:creator>
  <dc:description/>
  <dc:language>en-US</dc:language>
  <cp:lastModifiedBy>Alexander Chow</cp:lastModifiedBy>
  <dcterms:modified xsi:type="dcterms:W3CDTF">2011-02-21T14:07:01Z</dcterms:modified>
  <cp:revision>2</cp:revision>
  <dc:subject/>
  <dc:title>Extract test</dc:title>
</cp:coreProperties>
</file>