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9AD5-050B-4B4A-8D0B-B2FF7FF62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8C23-FE22-4C20-A596-4A49E1F92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6EA7-5639-481F-856D-361403F64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9EDC-3E8A-4FE6-B92F-DAE412409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6F1A-7C79-4BDC-91E2-F7EF65F1D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F802-9988-4EBC-B1DE-FDA99EE2D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8754-C42E-473D-A06A-CFF1BA6A2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12D0-576A-46A5-B625-5ED645FCD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F56A-7272-4E71-AD7F-65C6CC7A7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BED7-AFD9-4AD8-ADDD-37B5652D8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160E-8F31-4A7F-B774-3BAA7A12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9140-7F66-4950-9A48-F45ADAAA5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DAE1A-6E76-47F2-8F83-D9C0C6ED0F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ract tes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13:40:55Z</dcterms:created>
  <dc:creator>najgor++</dc:creator>
  <dc:description/>
  <dc:language>en-US</dc:language>
  <cp:lastModifiedBy>Alexander Chow</cp:lastModifiedBy>
  <dcterms:modified xsi:type="dcterms:W3CDTF">2011-02-21T14:07:01Z</dcterms:modified>
  <cp:revision>2</cp:revision>
  <dc:subject/>
  <dc:title>Extract test</dc:title>
</cp:coreProperties>
</file>