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77B8-6FD4-4E57-9238-266A4DC99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D80C-80EB-4AD7-9C36-B8BA1A926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F368-10DC-4205-B0D2-C730DBED5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09A9-6BE3-4B12-A95A-898ED71BE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2B5A-65C0-48BE-B647-00FF9D3DD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B530-8252-4FF2-A261-9FAF5EC1F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14B4-648A-43D1-91F4-B987F36F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5D2B-0E32-45A3-8A6B-40DB417FD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6C70-C903-4E0E-83FA-D3634D2A4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CFE6-A5B7-4BA3-B784-E9E18593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0AC7-3F50-4F4D-8ADC-F40A1B5D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B5DD-CA1F-4A89-98E4-D48C0DB8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8D797-ED11-4205-9CF3-BE935DF93E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ract tes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3:40:55Z</dcterms:created>
  <dc:creator>najgor++</dc:creator>
  <dc:description/>
  <dc:language>en-US</dc:language>
  <cp:lastModifiedBy>Alexander Chow</cp:lastModifiedBy>
  <dcterms:modified xsi:type="dcterms:W3CDTF">2011-02-21T14:07:01Z</dcterms:modified>
  <cp:revision>2</cp:revision>
  <dc:subject/>
  <dc:title>Extract test</dc:title>
</cp:coreProperties>
</file>