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31D4-70E2-4428-8C78-16D87DBD3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B980-EDCA-409A-A173-6A8BA0FC9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5580-6CD3-4B8C-9A22-AAEA7E713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7BA1-DBCF-4E08-B1CC-A123690AD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8BCC-F169-4E81-B4FC-B6AA603F3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834F-0B9D-4F89-A9A7-468E826AC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B789-62AC-4090-B491-A180BBECA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B223-7A25-4FDC-9B58-8C660CCB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56DA-4A9D-40C0-8A83-24F3B5111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5A07-4D2E-4F79-894E-62F7179E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81D4-777B-4211-A1E8-A97433F1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CC69-3A80-489D-97D3-1B844443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2FBF1-EB86-4629-A9EE-F31556D607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ract tes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3:40:55Z</dcterms:created>
  <dc:creator>najgor++</dc:creator>
  <dc:description/>
  <dc:language>en-US</dc:language>
  <cp:lastModifiedBy>Alexander Chow</cp:lastModifiedBy>
  <dcterms:modified xsi:type="dcterms:W3CDTF">2011-02-21T14:07:01Z</dcterms:modified>
  <cp:revision>2</cp:revision>
  <dc:subject/>
  <dc:title>Extract test</dc:title>
</cp:coreProperties>
</file>