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DFF5-297C-46A0-926D-FBFFCC9A1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43D3-90EF-47AA-9BB0-B13780F8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D06D-CAA7-409A-9A87-2622A0AF3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DCB6-59A6-4FC1-A8A0-0B3E82D82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2811-854C-4E80-B284-1308678E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D490-FBC1-4990-A67B-B2E3A9B1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D71B-3B01-4685-ADC6-02284E66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2A0A-588C-485F-9B9E-0642411F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F0D8-CE8F-4F48-BEB6-D9771F61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52AD-5944-447A-9DC4-82B646E9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CE60-54ED-44C5-9D16-13C51745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1B25-D3E0-4A95-A589-34967C36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81EC-D845-4725-9AEF-D77FC6F74A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ct tes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3:40:55Z</dcterms:created>
  <dc:creator>najgor++</dc:creator>
  <dc:description/>
  <dc:language>en-US</dc:language>
  <cp:lastModifiedBy>Alexander Chow</cp:lastModifiedBy>
  <dcterms:modified xsi:type="dcterms:W3CDTF">2011-02-21T14:07:01Z</dcterms:modified>
  <cp:revision>2</cp:revision>
  <dc:subject/>
  <dc:title>Extract test</dc:title>
</cp:coreProperties>
</file>